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media/image18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039C-0409-4DB2-87DA-24E027E2A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DC84-4D23-422A-B9D9-42E68D97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D92-77BC-4DEA-A51D-3B716878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CE7-FC39-4237-BE2D-28270E1F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279-A313-4607-9FA5-213FD81C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9AF-3838-448C-80E4-714964F2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B703-D69B-48B3-BDDC-7C44C547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509A-D557-475B-BF70-4143D2D0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945F-3D95-4E76-BF47-C98ABA95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498-D5F1-4522-9CE6-62A8EDFA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2426-31D6-4263-B5DD-70BABA56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9D8E-8040-488C-A799-55E1578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6B56-1B0B-45FF-AEB0-ECF2E516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E3E-2754-4141-A8F1-91450E15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369A-32BC-4C9A-AE11-E313063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DD8E-039A-4DC2-848A-B509FC1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BA0D-1086-407A-9370-7DAB86E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D797-E86B-4938-B1AC-5161A9F5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5F84-A42D-4B3A-87C2-F4FB8793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42BB-9401-48B8-AE21-B67E2C0A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C0F0-3446-4292-82E2-F5EDAFC9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599C-41FA-4F98-BEB5-C2A0080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A8C0-122B-41D3-8D96-7A41860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855F-1E0F-4728-9101-B6669A8D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352-E0F0-4EF1-A053-7EF6A6DF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2764-4271-4BED-99D5-8B9D8D27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4258-81DF-48C1-8349-BC4E21D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7B0D-A864-46EA-BF15-5A5D1F46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CFAE-55FD-48BE-BE28-D089E42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F5F6-A5B1-4C7B-8153-5BC3DDA5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29F5-D78D-42C0-93AF-4491F382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C9CA7-42EB-4301-A4B7-578DC5FC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B8BB0-A605-46AD-BE75-93E7E412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5371-4430-4646-A50D-E792F3FA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87CC-E931-46B7-8FEE-7266016F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FF9-BA3B-4D26-92C1-A99622FB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E3174-4773-463E-BD10-DC102026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A205-3441-41F9-ADCC-48301873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505F-C9DD-4333-A30F-4162B8A4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1B58-61DF-4DC0-80E4-C282B89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F65F-B156-4C54-91E8-3590813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8124-779D-47BB-8D72-1BA0099D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A280-2642-4C5C-AB5F-C027F169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06EF-119C-4106-B8D2-7BBDAC2D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ED44-EF3D-4C68-B960-D9036C6A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B8DC-4E71-4C9F-A303-DD6C75B6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7EF-E7FD-4AAA-945F-F000AFD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2646-34A0-4F7C-A3BA-AB5C9B8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37F7-6B2C-46EB-9CCE-90276925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6938-F156-4D2D-A901-BEBBAB9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7E9F-C24D-456C-8B20-FC81AF61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057CF-073C-448F-9905-32927678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ABCA-AA22-48C7-B0BE-2462CBF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BAE5-D192-47F1-AB30-2D7BF6C7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6EDC-7AE8-4DFD-B258-F12776E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F113-D0A8-4E25-BC3C-736D10EE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DC5EB-BA0F-4CB1-8006-CF6C762E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AA5-4293-4490-8579-93AD15B7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4396-CA29-4F50-8777-2F7244C3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36FA-230C-4D36-B0F4-0D19F965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DF49-E732-450C-B9AD-4EE326DD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9306A-F71A-4088-B889-5CA2DD1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A5369-DFF8-4729-AA6B-F9BCEA55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3FCD-5228-4B12-B30E-2C4E9289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45CCC-BDB2-405D-B6BE-3BEFBB9C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CB99-1838-4E80-AC68-71D10058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96C29-09A3-42DF-84FE-676A832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FA8EF-E898-4164-8DD7-8ABFA45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F61-C1D1-4F75-A8DB-2DCCE93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50E84-52AE-48A7-A8C6-C753BB2A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5C409-EA4F-4A3B-8109-2CB03121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3142-64E4-4B3D-BB0B-178B735D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C91D2-4226-4C89-8442-C3445F3C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B2B7-0EB9-4E2F-B063-86748E68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2A76-314B-42D5-BF2C-B9295DB3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FDBE5-E99E-436C-B0E6-8BC80380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1846-485C-49DE-AAEC-D84255A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12C6-C57F-45A5-8C5E-8306BE10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9D18D-CD74-406F-AA99-E49F581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47E-0BA6-44C6-9766-E5E7051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38A78-0F14-45AB-B075-B0AF9FFD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F6ADD-0E4A-4860-853A-05CD99D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05281-6C27-43D8-80E0-49DC6730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2B064-B130-454C-AEE0-0AF1E4F6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5C65C-F8C6-4AF6-ADAA-73767C67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444-1E16-42FB-95FB-338D4CCF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2D8-1598-407F-8866-273268A29664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4AB-A57F-424A-A187-EE553E83371A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bf5f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bf5f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9598-D982-4684-B968-69DA00810767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6D01-C25E-4B93-AF0C-DCF89078348D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9FFA-040A-4492-A095-87A2E4D03D69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DEAF-14BD-489D-B643-006CA598257B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C19-BAAC-4273-845C-983AF481C7CD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Using Da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At Santee Community School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2590920" y="2685960"/>
            <a:ext cx="4271760" cy="4172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Used in Reading, next year will also be Math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Lesson progression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Individual scores – how are students doing on independent work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Look at test scores – did the student pass first time or is re-teaching required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ll factors are used to make placement determinations. 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IFD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Teacher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DesCartes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Data Retreats 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lvl="2" marL="752760" indent="-200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fter each MAP® Test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lvl="2" marL="752760" indent="-200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For Teachers and Para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lvl="2" marL="752760" indent="-200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For Student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WEA - MAPS®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413320" y="274968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057400"/>
            <a:ext cx="74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nvolve all teacher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Better understanding of the MAP score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Steps to Analyze Teacher Report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grade level of high and low student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2" marL="1128960" indent="-503640">
              <a:spcBef>
                <a:spcPts val="499"/>
              </a:spcBef>
              <a:buClr>
                <a:srgbClr val="0c61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ndara"/>
              </a:rPr>
              <a:t>Use Normative Data charts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student performing at grade level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2" marL="1128960" indent="-503640">
              <a:spcBef>
                <a:spcPts val="499"/>
              </a:spcBef>
              <a:buClr>
                <a:srgbClr val="0c61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ndara"/>
              </a:rPr>
              <a:t>Use Normative Data charts (+3 and -3 of RIT)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students falling in the 40-60 %tile range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student qualifying as Low &amp; High Achiever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2" marL="1128960" indent="-503640">
              <a:spcBef>
                <a:spcPts val="499"/>
              </a:spcBef>
              <a:buClr>
                <a:srgbClr val="0c61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ndara"/>
              </a:rPr>
              <a:t>High Achievers=95%tile, Low Achievers=2 grade levels below using the Normative Data Chart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aff Data Retreats – Using MAP scor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s set goals 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s graph MAP® scores for all subjec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s and MAP®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733920" y="41148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s Graphing MAP scor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Content Placeholder 3" descr="MAP Chart.JPG"/>
          <p:cNvPicPr/>
          <p:nvPr/>
        </p:nvPicPr>
        <p:blipFill>
          <a:blip r:embed="rId1"/>
          <a:stretch/>
        </p:blipFill>
        <p:spPr>
          <a:xfrm>
            <a:off x="1066680" y="1682640"/>
            <a:ext cx="70866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AIMSweb is a benchmark and progress monitoring system based on direct, frequent and continuous student assessment. 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e results are reported to students, parents, teachers and administrators via a web-based data management and reporting system to determine response to intervention.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pleted at the beginning and end of school year.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IMSweb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Reading, Mathematics, and Writ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ompare to previous year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orrelation with MAP test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ebraska State Assessmen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eS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8" name="Picture 2" descr="C:\Users\theiser\AppData\Local\Microsoft\Windows\Temporary Internet Files\Content.IE5\04H4059W\MM900283244[1].gif"/>
          <p:cNvPicPr/>
          <p:nvPr/>
        </p:nvPicPr>
        <p:blipFill>
          <a:blip r:embed="rId1"/>
          <a:stretch/>
        </p:blipFill>
        <p:spPr>
          <a:xfrm>
            <a:off x="3352680" y="4498920"/>
            <a:ext cx="2395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ing School year will be the first year to use DIBELS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Used to progress monitor and benchmark with reading progress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Used Kindergarten through 6</a:t>
            </a:r>
            <a:r>
              <a:rPr b="0" lang="en-US" sz="24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 grade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Benchmarking will be 3 times per year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Progress monitoring will be as needed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IBEL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4" descr="C:\Users\theiser\AppData\Local\Microsoft\Windows\Temporary Internet Files\Content.IE5\04H4059W\MC900287310[1].wmf"/>
          <p:cNvPicPr/>
          <p:nvPr/>
        </p:nvPicPr>
        <p:blipFill>
          <a:blip r:embed="rId1"/>
          <a:stretch/>
        </p:blipFill>
        <p:spPr>
          <a:xfrm>
            <a:off x="6629400" y="3581280"/>
            <a:ext cx="2104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Teacher Evaluation Proces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rofessional Learning Communities (PLC’s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Implementing Behavior Intervention Support Team (BIST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ew for 2011-2012 School Year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4" name="Picture 2" descr="C:\Users\theiser\AppData\Local\Microsoft\Windows\Temporary Internet Files\Content.IE5\C3FHIMX8\MC900153552[1].wmf"/>
          <p:cNvPicPr/>
          <p:nvPr/>
        </p:nvPicPr>
        <p:blipFill>
          <a:blip r:embed="rId1"/>
          <a:stretch/>
        </p:blipFill>
        <p:spPr>
          <a:xfrm>
            <a:off x="3124080" y="4114800"/>
            <a:ext cx="27590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37720" y="26665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antee will be using a teacher evaluation process based on five domain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Recognize Instructional Excellenc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ssess Teaching not the Teache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eacher Evaluation Proce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7" name="Picture 2" descr="C:\Users\theiser\AppData\Local\Microsoft\Windows\Temporary Internet Files\Content.IE5\04H4059W\MC900056935[1].wmf"/>
          <p:cNvPicPr/>
          <p:nvPr/>
        </p:nvPicPr>
        <p:blipFill>
          <a:blip r:embed="rId1"/>
          <a:stretch/>
        </p:blipFill>
        <p:spPr>
          <a:xfrm>
            <a:off x="3352680" y="4724280"/>
            <a:ext cx="18068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C:\Users\theiser\AppData\Local\Microsoft\Windows\Temporary Internet Files\Content.IE5\435SOUMM\MC900410945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43400" y="3352680"/>
            <a:ext cx="4589640" cy="3265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762120" y="25142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ata Source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ew for 2011-2012 School Yea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rincipals’ Rol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hanges made as a result of analyzing data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hallenge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Using Dat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at Santee community School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Teacher Evaluation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onstantly review data from Goedustar, NIFDI, and DIBEL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articipate in SAT meeting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Monthly Leadership Meeting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incipals’ Rol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C:\Users\theiser\AppData\Local\Microsoft\Windows\Temporary Internet Files\Content.IE5\435SOUMM\MP900341522[1].jpg"/>
          <p:cNvPicPr/>
          <p:nvPr/>
        </p:nvPicPr>
        <p:blipFill>
          <a:blip r:embed="rId1"/>
          <a:stretch/>
        </p:blipFill>
        <p:spPr>
          <a:xfrm>
            <a:off x="1908000" y="5181480"/>
            <a:ext cx="555948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Reading and Math interventions have been put into place (NIFDI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9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hou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aturday School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Open Library in evening for credit recovery and tutor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21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st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Century after school program and summer school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hanges Made as Results of Da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theiser\AppData\Local\Microsoft\Windows\Temporary Internet Files\Content.IE5\02VA1KQY\MC900233279[1].wmf"/>
          <p:cNvPicPr/>
          <p:nvPr/>
        </p:nvPicPr>
        <p:blipFill>
          <a:blip r:embed="rId1"/>
          <a:stretch/>
        </p:blipFill>
        <p:spPr>
          <a:xfrm>
            <a:off x="3211560" y="4572000"/>
            <a:ext cx="2708280" cy="2286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860400" y="26665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ride period for 9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through 12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grad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ata visible for students to se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tudents analyze their own data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ortfolios for both students and teacher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hanges Made as Results of Da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ome view data as threaten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ome are unsure of how to look and interpret data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ata is new, unknown, and intimidat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8" name="Picture 2" descr="C:\Users\theiser\AppData\Local\Microsoft\Windows\Temporary Internet Files\Content.IE5\435SOUMM\MC900433819[1].png"/>
          <p:cNvPicPr/>
          <p:nvPr/>
        </p:nvPicPr>
        <p:blipFill>
          <a:blip r:embed="rId1"/>
          <a:stretch/>
        </p:blipFill>
        <p:spPr>
          <a:xfrm>
            <a:off x="33526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laptop"/>
          <p:cNvGrpSpPr/>
          <p:nvPr/>
        </p:nvGrpSpPr>
        <p:grpSpPr>
          <a:xfrm>
            <a:off x="2328840" y="2305080"/>
            <a:ext cx="4492800" cy="4267080"/>
            <a:chOff x="2328840" y="2305080"/>
            <a:chExt cx="4492800" cy="4267080"/>
          </a:xfrm>
        </p:grpSpPr>
        <p:pic>
          <p:nvPicPr>
            <p:cNvPr id="348" name="laptop" descr=""/>
            <p:cNvPicPr/>
            <p:nvPr/>
          </p:nvPicPr>
          <p:blipFill>
            <a:blip r:embed="rId1"/>
            <a:stretch/>
          </p:blipFill>
          <p:spPr>
            <a:xfrm>
              <a:off x="2328840" y="2305080"/>
              <a:ext cx="44928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60600" y="2773440"/>
              <a:ext cx="245124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 txBox="1"/>
          <p:nvPr/>
        </p:nvSpPr>
        <p:spPr>
          <a:xfrm>
            <a:off x="871560" y="2133720"/>
            <a:ext cx="74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Goedusta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ational Institute for Direct Instruction (NIFDI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orthwest Evaluation Association (NWEA) Measures of Academic Progress (MAPS)®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IMSweb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ebraska State Assessments (NeSA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ynamic Indicators for Basic Early Literacy Skills (DIBELS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Attendance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Progress Report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Ineligibility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Behavior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Lesson Plan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GoEdustar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4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5257800" y="2666880"/>
            <a:ext cx="23623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1599840"/>
            <a:ext cx="8043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Excessive Absenteeism Reports 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Given to Administration weekly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Monthly Attendance Reports – 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nalyzed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pared to previous years attendance for that month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pared to other months in the current year 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hared with all Teachers, Administration, and Attendance committee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50920" indent="-2509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Quarterly Attendance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tudents in grades 9-12 analyze their own attendance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Attendance placed on report cards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ttendance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s in grades 9-12 examine their grades at least twice a week during PRIDE time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Grades are sent to Parents/Guardians every 3 week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ogress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3886200" y="4800600"/>
            <a:ext cx="24098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Title 1"/>
          <p:cNvSpPr/>
          <p:nvPr/>
        </p:nvSpPr>
        <p:spPr>
          <a:xfrm>
            <a:off x="495360" y="2430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 Graphing their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30200" y="1828800"/>
            <a:ext cx="74674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Grade Chart.JPG"/>
          <p:cNvPicPr/>
          <p:nvPr/>
        </p:nvPicPr>
        <p:blipFill>
          <a:blip r:embed="rId1"/>
          <a:stretch/>
        </p:blipFill>
        <p:spPr>
          <a:xfrm>
            <a:off x="990720" y="2438280"/>
            <a:ext cx="69339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Includes all D’s and F’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Printed every Monday morning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All teachers are given report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Letters given to students and parents/guardian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Determines the 9</a:t>
            </a:r>
            <a:r>
              <a:rPr b="0" lang="en-US" sz="32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 hour list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neligibility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858000" y="3962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Printed Monthly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Looked at by PBS Team and Administration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ehavior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648320" y="378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20:45:02Z</dcterms:created>
  <dc:creator>marktami</dc:creator>
  <dc:description/>
  <dc:language>en-US</dc:language>
  <cp:lastModifiedBy>Tami Heiser</cp:lastModifiedBy>
  <dcterms:modified xsi:type="dcterms:W3CDTF">2011-08-02T18:06:05Z</dcterms:modified>
  <cp:revision>19</cp:revision>
  <dc:subject/>
  <dc:title>Using Data</dc:title>
</cp:coreProperties>
</file>